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906-9085-4A46-B61C-E22190D1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CB7-7F1C-44CE-8609-263324CF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4CB-8313-4DA4-B10C-A9B2F4B0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24B-D512-4C34-9D80-8D821D30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3D9-5E49-46FE-A363-F70242DB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2D81-4793-44E2-B592-8660D675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4BEF-FB85-42A3-B2FD-3D9AC82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5FE-85C7-441D-82F1-F655D35C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C3BA-80AC-4A0D-963B-44D4BD83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BE9F-C183-48E6-9E13-DE7AC11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0D2-3BF9-4FD9-B246-F0667797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4B7-AE95-47A2-876C-41291B3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308-DD5F-42AC-95F9-D1F140DB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4BD0-8525-41BD-A246-59B3AB5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2BA2-763F-43AD-8A35-3C94D791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F904-601A-470B-83CF-6D236A67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054F-5E4B-4E64-9CE9-4283444A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109-C2AB-4281-843F-740E743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4DE-5A81-4BDA-BE9E-1CB59748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D5B-DE4E-4843-8866-DADF0495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C08-3499-44BA-8797-F4360FB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AFE-750B-4F55-96B5-8C7146F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B9A-F1F4-4647-9C22-A605CAE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E95-9A33-4AF6-9514-53B6483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8A4F-ED98-410C-9F4A-FE693285AB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8FC-DF5F-403B-B914-2919EEB26B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нтикризисный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ктурные блоки в работе с кризисами-конфликта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миков А.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управления информационным п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600" spc="-1" strike="noStrike">
                <a:solidFill>
                  <a:srgbClr val="006633"/>
                </a:solidFill>
                <a:latin typeface="Garamond"/>
              </a:rPr>
              <a:t>меры для нейтрализации конфликтного потенциала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ЦБ начали готовить пресс-пакеты со специальной информацией для журналистов, представленной в виде максимально готового для любого употребления продукта: просто почитать, войти в определенную проблему, полностью или частично использовать в публикациях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сокая степень готовности вспомогательных материалов уменьшала вероятность того, что будет сделана какая-то ошибка или допущена неточность в публик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всей стране были организованы циклы образовательных семинаров для журналистов. Подготовленный специалист ЦБ выезжал в регион, где собирались руководители территориальных учреждений ЦБ, представители коммерческих банков, инвестиционных организаций, журналисты местных С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раивалась обстоятельная дискуссия по проблеме, преследовавшая две цели: образовательно-информационную и прикладную, поскольку журналисты готовили по итогам семинара публицистические материал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одились и другие мероприятия для СМИ: пресс-конференции, в том числе селекторные, прямые эфиры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ый блок гипотез был направлен на определение того, какие категории населения могут болезненно воспринять сообщения о деноминации. В частности, предполагалось и впоследствии подтвердилось исследованиями, что в наибольшей степени подвержены страхам пожилые люди, т.е. те, которых государство неоднократно обворовывал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конфликтогенных групп начали готовить телевизионные сюжеты, причем первоначально планировалось участие в разъяснительных роликах политиков, экономистов, банкир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тестирование в фокус-группах показало, что их появление на экранах в заданной роли вызывает у людей высокую степень раздражения, а, скажем, образы известных актеров, напротив, действуют на аудиторию благоприятн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 эти персонажи и фигурировали в роликах в качестве основ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фические формы PR-воздействия подбирали для молодежи, людей с низким образовательным уровнем и, наоборот, групп с повышенными интеллектуальными запросами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го рода деятельность во многом способствовала тому, что деноминация осуществилась спокойно и безболезнен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зитивная компенс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, разработчики информационной стратегии табачных компаний всегда отдавали себе отчет в том, что они могут получать упреки в причинении вреда, обусловленного воздействием никотина на организм. Поэтому реальные и потенциальные нападки постоянно компенсировались мероприятиями в рамках программы корпоративной социальной ответствен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еждающее обостре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при разработке концепции развития имиджа того или иного руководящего персонажа имеется в виду, что лидера всегда будут в какой-то мере критиковать. Отсюда планируются уровни и позиции допустимой критики, которые затем намеренно закладываются даже в отдельные положительны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севдоконфли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фликты инициируют специально для того, чтоб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) ослабить какой-то другой, более важный и опасный конфлик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) набрать дополнительный «вес» в конкурентной борьб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2004 году Центробанк России сделал заявление о наличии некоего "черного списка" банков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орые вовлечены в операции по "отмыванию" денег. Информация была быстро подхвачен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 несколько месяцев операционную деятельность по разным причинам прекратил целы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яд банковских учреждений, а в прессе стали появляться публикации с рассуждениями о том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проблемы у каких банков возникл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результате запаниковавшие вкладчики бросилис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имать деньги с депозитных счетов, ввиду чего о своей платежеспособности сразу объяв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ще несколько бан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се были готовы к работе в таком режиме. Одну из наиболее грамотны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атегий кризисного реагирования выбрал тогда Альфа-Бан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и акционеры банка отвечали на вопросы представителей СМИ. Был организова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тивный доступ журналистов к информации, выпущены телевизионные ролики дл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ъяснения позиции финучрежд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тличие от других банков, сокращавших количеств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чих часов, отделения Альфа-Банка работали до позднего вечера, обслуживая вкладчиков. Ег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уководство разъясняло свою позицию относительно кризиса и почему было приня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популярное, но действенное решение о введении временной 10%-ной комиссии за досрочн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нятие средств с депозитных сче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последствии комиссия вкладчикам была возвращена. П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нным открытых источников, акционеры Альфа-Банка вложили около $200 млн. личных средств,чтобы "удержать" свое детище на плав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итоге, несмотря на потери в результате кризиса более чем $9 млн., упомянутое финансово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реждение сохранило доверие большинства клиентов и устояло в сложившейся ситуации, в т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ремя как целый ряд других банков прекратили свое сущ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вова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Локальные приемы и механизмы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 управления конфликтами</a:t>
            </a:r>
            <a:endParaRPr b="0" lang="en-US" sz="2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грация оппозиционной эли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отправлять оппонента в отставку, не подвергать беспощадной крити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лучший нейтрализующий эффект дает приобщение оппозиционера к каким-либо руководящим должностям или орга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учая некоторый статус и права, он берет на себя и долю ответственности, отсюда оппозиционные проявления, как правило, все более и более ослабляю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структурные блоки в работе с кризисами-конфликтами</a:t>
            </a: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 – Чумиков А.Н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й блок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универсальный цикл действий по управлению конфликтом или кризи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мните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антикризисного PR зависят от характера кризи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компания подверглась нападкам конкурентов, PR может быть построен по принципу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бовой ата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аких случаях пиарщики настаивают на агрессивной политике, предполагающей привлечение внимания общественности и С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упный холдинг и небольшой банк – невозврат креди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British Airways (BA) и Virgin Atlantic (V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рупный холдинг задолжал небольшому банку более 20 млн. долл. Для банка это была огромная сумма. Эта ситуация поставила его под угрозу гибе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делать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кейс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сновных деловых изданиях банк купил рекламные полос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убликовали: кредитный договор и лишь одну фразу: «Долги надо платить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результат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по догово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динг заплатил за то, чтобы банк снял все запланированные публикации такого р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2000 году, когда ВА запустила в Лондоне колесо обозрения British Airways London Ey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есо собирали на земле, и поставить его в вертикальное положение удалось не сраз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обовая ата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VA попыталась превратить акцию конкурента в публичное посмешище. VA тут же запустила над стройплощадкой дирижабль со слоганом "ВА не может подняться!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Отвлекающие маневры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я - цель которой  переключить внимание общественности с возникшей пробл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ституционализа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, т.е. установления норм и правил его разреш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гитимация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снение уровня готовности участников конфликта добровольно соблюдать предложенные нормы и прав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ведение институциональной процедуры в соответствие с уровнем легитим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ентство PR-Impact:  к ним обратилась крупная табачная комп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дном из провинциальных городов появились объявления, в которых поклонникам сигарет, выпускаемых этой компанией, рекомендовалось срочно пройти флюорограф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ш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не стало выяснять, кто из конкурентов предпринял акцию с расклейкой объявл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рез несколько дней в тех же местах развесили похожие объявления, но кроме марки клиента там были указаны марки многих других конкурирующих компаний. В итоге предпринятый конкурентами ход потерял смыс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гентство переключило внимание с имени нашего клиента, и антиреклама стала напоминать акцию Минзд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зис: Коровье бешенство в ряде областе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ороны, которые могут использовать с пользой для себя кризис: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Пример использования кризиса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говядины из «чистых» областе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импортер говядины из другой страны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изводитель или поставщик вакцин для крупного рогатого ско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блок-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ирование конфликтующих груп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 предполагает создание условий для проявления и организационного закрепления индивидуальных и коллективных субъектов — носителей имеющихся в обществе интерес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едующая управленческая задача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дук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а - его постепенное ослабление за счет перевода на другой уров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обществе периодически возникают конфликты, определяемые требованиями получения дополнительных прав теми или иными нац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, исходя из показанных выше действий, таким конфликтом можно управлять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атывается проект закона, например. "О национально-культурной автономии", который затем тестируется на предмет потенциальной готовности его выполнять и корректируе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раллельно стимулируются собрания общественных объединений национального профиля с высказыванием мнений о законе, а также образование новых структур подобного типа с вовлечением их в процес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ле этого начинают постепенно реализовываться прямые мероприятия по расширению прав наций - открытие национальных школ, выпуск соответствующих СМИ и т.п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реализации любого проекта изучаются специфические условия - политические, экономические, культурные и п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ем осуществляетс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блемное прогнозировани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следование, формирование баз данных по проблемам, вокруг которых в перспективе возможен конфлик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торой блок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стирование проблемы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роверка конфликтных гипотез с определением уровня реальной опасност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ершает цик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йтрализация конфликтного потенциал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разработка коммуникационной стратегии, создание и распределение оптимальных информационных поток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мер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ы PR-воздействия, принятые Центробанком (ЦБ) РФ в 1997 году в преддверии деноминации рубля с учетом атмосферы недоверия к финансовым реформам, господствующей в российском обществ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а выдвинута гипотеза о том, что журналисты, особенно на перифер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первых, недостаточно грамотны экономическ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-вторых, не всегда имеют под рукой необходимое количество вспомогательных материалов, поэтому они попадают в плен к доминирующему обывательскому мн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дтверждения гипотезы использовались ранее опубликованные материалы, большинство из которых сводилось к тому, что денежная реформа обязательно связана с какими-то ограничениями: например, наличные деньги меняются в одном масштабе, а безналичные - в другом либо действуют ограничения по вкладам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22:49:06Z</dcterms:created>
  <dc:creator>admin</dc:creator>
  <dc:description/>
  <dc:language>en-US</dc:language>
  <cp:lastModifiedBy>User</cp:lastModifiedBy>
  <dcterms:modified xsi:type="dcterms:W3CDTF">2022-12-20T19:13:20Z</dcterms:modified>
  <cp:revision>5</cp:revision>
  <dc:subject/>
  <dc:title>Антикризисный PR</dc:title>
</cp:coreProperties>
</file>